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3AE-3792-4C1D-9EEB-9A1F91FC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347-2ED7-4F28-ABCE-7628C10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F52-6A38-484B-834F-85DD168E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462-36E0-4144-B9CF-0EEE63D0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9012-EC7F-46E3-AAC1-68578BB9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BC8-A737-44CF-8AC6-15FA68C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56C-D409-41E8-8D23-D92D1549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2AF-490A-4105-AA6A-6E7A962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345-D8C3-4A20-809E-E881659F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5F80-0859-4F1E-A121-7DE9062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FCA-313F-4F73-B723-CAADD9A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56B-4232-41FF-8FE1-31324800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6F6-8BED-4B25-87D3-36FC838A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2DBC-852F-4A2A-9B2C-01EF72F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4361-0F76-4718-A523-2AE04C0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0A9-6E5A-4D9E-B8FC-A4D133E1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790-C562-4A90-A701-58B5C9A6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489-65A0-4E7A-AA6D-890CDED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58F-8011-4B42-8F8A-3051F1D3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745-6451-4983-9C8D-6A6272A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312-3D8A-43A8-B8B5-A9461951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322-604C-4DD8-90B8-D0A59C7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0D6-2B1D-4EA7-8181-C944703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328-A47E-4A48-8196-1270ECD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E221-5B09-4864-9D57-A8A7D1D223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0AB-7D34-4AF5-A964-D4B849E19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5840" y="281160"/>
            <a:ext cx="41958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morilla burla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o m’era mora Morai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lla de un bel ca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istiano vino  a mi puer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itada, por m’engañ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óme en algarab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o aquél que la bien sab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Abrasme las puertas, mo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Alá te guarde de 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¿Cómo t’abriré, mezqui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no sé quién te será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soy el moro Mazo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rmano de la tu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un cristiano dejó muer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ras de mí venía el alca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no me abres tú, mi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70800" y="690480"/>
            <a:ext cx="286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í me verás matar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ando esto oí, cuita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encéme a levant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istiérame una almej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hallando mi br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érame para la puer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bríla de par en p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35:07Z</dcterms:created>
  <dc:creator> </dc:creator>
  <dc:description/>
  <dc:language>en-US</dc:language>
  <cp:lastModifiedBy> </cp:lastModifiedBy>
  <dcterms:modified xsi:type="dcterms:W3CDTF">2007-09-28T01:07:52Z</dcterms:modified>
  <cp:revision>3</cp:revision>
  <dc:subject/>
  <dc:title>Diapositiva 1</dc:title>
</cp:coreProperties>
</file>